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D1A-A5EE-48F1-9A93-3B3ED70B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204-C97A-4212-A4B3-1505948F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C70-5F32-4623-B7AC-9CCA4D3A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0C2A-3432-4D59-B1A6-D52A0AF6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D42EC-1E86-4288-BD44-0564D82B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783F9-F701-471D-A433-D0F1EACC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FCDC8-BBA0-46EB-973B-C10A76C5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994DF-2C9C-408E-AE2C-9B69E93E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10B2F-F153-4C9F-88B3-FE9FA063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C5243-01E9-43CA-9380-4330C74E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749DD-F9A2-40C1-8A20-8D4F7997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0BB-1A5A-46A1-B252-77A1F362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60C19-17B0-4A08-AE83-20DC427B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C57BC-33F9-47DD-8423-45BFEB8C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4007F-2F9F-4255-8D32-6631624E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67A7E-9D8E-48EA-B28D-62B89BB4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3A0F5-897E-46C1-B3C7-B95A9BF5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ECF-919A-4F83-92E8-6AAD162A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3EEE-DA27-48BC-8FEA-BC6EC874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2393-9EB9-42B2-8D7C-309182B1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AD5-0551-4308-863D-CAE6341D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E9B8-62A4-4B6A-AEEA-704A3219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216-73A8-4951-B5A8-6BFF9A26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A9F5-685B-4D2D-9DA5-1A890C7E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13DA-B37A-42B5-B935-305A98E3EE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6FD6-0F68-4F62-BA51-07911769AE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Butterfli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238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: Logann John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895480" y="4343400"/>
            <a:ext cx="38102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e you interested in learning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bout butterflies?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You will be surprised to know the information I’ve learned about them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81480" y="3581280"/>
            <a:ext cx="3000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en a caterpillar changes to a butterfly, this change is called metamorphosi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aterpillar starts as a tiny egg. It is the size of a pinhead. The caterpillar eats and grows for 12 to 14 d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91320" y="3219480"/>
            <a:ext cx="29480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t makes a protective sack called a chrysali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chrysalis splits open, a butterfly climbs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68760" y="2638440"/>
            <a:ext cx="18064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utterflies live 20 to 40 days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 eat flowers, leaves, and juices. It sips the flowers’ nectar though a long, coiled tube called a probosc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733920" y="3886200"/>
            <a:ext cx="179676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re are many different kinds of butterflie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nes to look for are the monarch, black swallowtail, cabbagewhite, dogface butterfly, buckeye, and commonb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57800" y="4648320"/>
            <a:ext cx="730080" cy="909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191120" y="4419720"/>
            <a:ext cx="730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I hope you enjoyed learning about butterflie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76720" y="3657600"/>
            <a:ext cx="25714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8:13:04Z</dcterms:modified>
  <cp:revision>6</cp:revision>
  <dc:subject/>
  <dc:title>Animal Name</dc:title>
</cp:coreProperties>
</file>